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B40-1AED-4797-8882-5CADFE20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04-CC82-48F8-8B3D-C2EB5DC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0DD-2533-46A7-ACC7-5A1BB053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D31-0AAE-4FA5-8E29-5035A5E3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6C1-B678-4F86-AC25-0C2BAE1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3C6-7DEF-4181-8ABA-C2F3010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338-611C-4F68-8E50-C7D661C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D6D-3B28-4377-96FD-F6E12464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A41-7433-49EB-9BE6-62118EC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5A6-2639-49BF-9281-A237D17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759-C50F-47BC-A9A6-FE50E2C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F31-DA63-443F-BC4D-A0492C5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8EF3-9D51-4E4C-9C93-0FC0AA8D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ens &amp; Mirr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 vs. Conc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33147" b="0"/>
          <a:stretch/>
        </p:blipFill>
        <p:spPr>
          <a:xfrm>
            <a:off x="228600" y="1447920"/>
            <a:ext cx="3657600" cy="2579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572000" y="19810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spreads out. No real image appears. Good for viewing wide areas (security mirrors in a stor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530388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28600" y="4572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comes together. Good for headlights and spotl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80880" y="144792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 flipV="1">
            <a:off x="3276720" y="152316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429000" cy="25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rcRect l="0" t="0" r="0" b="48831"/>
          <a:stretch/>
        </p:blipFill>
        <p:spPr>
          <a:xfrm>
            <a:off x="4343400" y="3565440"/>
            <a:ext cx="4648320" cy="2795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4920" y="3962520"/>
            <a:ext cx="3962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ype of lens magnifies an im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microscopes and farsighted eye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495680" y="106668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ype of lens reduces an image (makes it small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cameras and in nearsighted eye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3880" y="22860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6:16:22Z</dcterms:created>
  <dc:creator>St. Aloysius</dc:creator>
  <dc:description/>
  <dc:language>en-US</dc:language>
  <cp:lastModifiedBy>St. Aloysius</cp:lastModifiedBy>
  <dcterms:modified xsi:type="dcterms:W3CDTF">2012-12-10T15:06:22Z</dcterms:modified>
  <cp:revision>12</cp:revision>
  <dc:subject/>
  <dc:title>Convex vs Concave</dc:title>
</cp:coreProperties>
</file>